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B86B-B483-4C9C-BA24-DA9536AD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9584-F95A-4826-9C6E-46620488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8761-C703-403E-8EBC-4FCAA374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7D51-8115-4874-A3BC-B8525AC7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4F73-CE5A-4923-AA09-3C610CE7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EA29-0F5A-4037-BF06-67BAEE2E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BA4F-B255-4876-BFD6-5B683BC9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A9A9-7D04-446C-8731-18843025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4945-CCA3-45FF-A03E-71412ED3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9FDF-158F-4A26-886D-011EDEB3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0BEB-A617-4C37-9186-3AD9C1F1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4595-0619-4011-B185-D09DBD10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D944-F30D-4D9A-8928-F6422CBC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EA25-8BA0-4E1F-88A9-27DB7730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05D0-AB0B-4EBF-9F9B-0C80F63F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A9EE-D1B3-4005-AAD2-CFD621D1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D838-A467-4A3D-9511-210A1DF9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854D-CBC4-43BE-A90A-37C363C7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7699-912F-4147-A062-BDA474FF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D66B-526C-493A-A913-AC1CC468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7F1B-693A-4B72-AC2B-2D3F552B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9F84-9494-4FC7-BFF8-D1E12E57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7D84-1632-42A0-888B-E801E030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5C9C-04C6-4C48-80B2-118B58BB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91E0-841B-4E8F-8811-2A64049165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B15E-51C0-4773-9B91-E7C32E85084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Stencil"/>
              </a:rPr>
              <a:t>ЛИСТОПАДНИЧЕК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Характеристика Листопадничк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Любопытный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Любознательны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мелы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оязливы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Легкомысленный            Беспокойны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ешительны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12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6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160"/>
                            </p:stCondLst>
                            <p:childTnLst>
                              <p:par>
                                <p:cTn id="2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440"/>
                            </p:stCondLst>
                            <p:childTnLst>
                              <p:par>
                                <p:cTn id="2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84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88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4" descr="1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750960" y="271440"/>
            <a:ext cx="7464240" cy="61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омашнее зад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ересказ по плану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ересказ от лица Листопадничк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идумать свою версию о том, как Листопадничек провел зиму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арисовать рисунок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Stencil"/>
              </a:rPr>
              <a:t>И.С. Соколов - Микитов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427280" y="1599840"/>
            <a:ext cx="4608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 Калугой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казчик, крестьян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оленс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трос, санитар, летчик, школьный учитель, «Заячья газета»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говаривал на диктофо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7" descr="Соколов-Микитов"/>
          <p:cNvPicPr/>
          <p:nvPr/>
        </p:nvPicPr>
        <p:blipFill>
          <a:blip r:embed="rId1"/>
          <a:stretch/>
        </p:blipFill>
        <p:spPr>
          <a:xfrm>
            <a:off x="900000" y="1700280"/>
            <a:ext cx="3311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0" y="2205000"/>
            <a:ext cx="9144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Бобры храбры идут в боры;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Бобры для бобрят добры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5"/>
          <p:cNvGraphicFramePr/>
          <p:nvPr/>
        </p:nvGraphicFramePr>
        <p:xfrm>
          <a:off x="0" y="57240"/>
          <a:ext cx="9144000" cy="68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7240"/>
                    <a:ext cx="9144000" cy="68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3"/>
          <p:cNvSpPr/>
          <p:nvPr/>
        </p:nvSpPr>
        <p:spPr>
          <a:xfrm>
            <a:off x="3132000" y="60480"/>
            <a:ext cx="270828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Зайча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Журавл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едвед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Еж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Зме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оба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Бобр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ыдр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исиц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ыс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осомах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8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0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3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6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68360" y="3357360"/>
            <a:ext cx="8424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9900"/>
                </a:solidFill>
                <a:uFillTx/>
                <a:latin typeface="Times New Roman"/>
              </a:rPr>
              <a:t>3 вариан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бери предложение, найди лишнее слово (стр.65)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0920" y="7646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ff00"/>
                </a:solidFill>
                <a:uFillTx/>
                <a:latin typeface="Times New Roman"/>
              </a:rPr>
              <a:t>1 вариан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ставьте пропущенное слово (стр. 61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али собираться птицы ……. в теплые стра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788000" y="7646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2 вариан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дите ошибку (стр.62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79280" y="2421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отлёт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4861080" y="1773360"/>
            <a:ext cx="113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ыстр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5942520" y="177336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тают бобр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4859280" y="1773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одк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831600" y="4508640"/>
            <a:ext cx="74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арый, выгнал, из своей, гостя, незваного, бобр, нор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1332000" y="4508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гнал старый Бобр из норы незванного гост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Рисунок 5" descr="2.jpg"/>
          <p:cNvPicPr/>
          <p:nvPr/>
        </p:nvPicPr>
        <p:blipFill>
          <a:blip r:embed="rId1"/>
          <a:stretch/>
        </p:blipFill>
        <p:spPr>
          <a:xfrm>
            <a:off x="316080" y="457200"/>
            <a:ext cx="8470800" cy="59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240c"/>
                </a:solidFill>
                <a:latin typeface="Times New Roman"/>
              </a:rPr>
              <a:t>Пла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чта Листопаднич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йчонок в хатке бобр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 долгую зиму страху натерпел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готовка животных к зим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шлось остаться на зим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конец – то дома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0"/>
                            </p:stCondLst>
                            <p:childTnLst>
                              <p:par>
                                <p:cTn id="2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000"/>
                            </p:stCondLst>
                            <p:childTnLst>
                              <p:par>
                                <p:cTn id="2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ЛА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чта Листопаднич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готовка животных к зим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йчонок в хатке бобр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шлось остаться на зим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 долгую зиму страху натерпел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конец – то дома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8:22Z</dcterms:created>
  <dc:creator>Галя</dc:creator>
  <dc:description/>
  <dc:language>en-US</dc:language>
  <cp:lastModifiedBy>Татьяна Яковлевна</cp:lastModifiedBy>
  <dcterms:modified xsi:type="dcterms:W3CDTF">2008-06-05T15:28:59Z</dcterms:modified>
  <cp:revision>15</cp:revision>
  <dc:subject/>
  <dc:title>Листопадничек</dc:title>
</cp:coreProperties>
</file>